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D283-F03F-4094-A0AB-5C70C930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4638-2BAC-40CD-8164-6AAD5575F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7AD-C8D2-4A47-98E8-2D4BBDF1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627C-64C8-47E6-B5E4-600ABBB7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49A2-B2BB-4DD7-A40E-B8088BD89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ADE1-5FAA-491B-8CDA-308CF305A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                                                                     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5C13565-A20C-4072-A093-36DCB0FE2B0D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72720" y="6244920"/>
            <a:ext cx="771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04B9C3B2-9FDC-4B59-BE6C-86568C96C764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34F031-7BEE-47CD-8C06-C1275DB7E0D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4C8252E-03BE-4EFF-A3FD-A673924A4FB7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E0DD3E-4C1B-4E51-85B5-D82441E0474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A1BB3E-8999-4737-867F-4DDB6D7C187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F4EEBA3-A04D-42C8-BB1E-DA5D75E6BEF1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D252BF-811B-47FF-BC9B-A92D215AE6A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5762160"/>
            <a:ext cx="876600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Finding and Organizing Information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7 &amp;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aving Files 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907920" y="1600200"/>
            <a:ext cx="777888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Butt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v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a fi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logical and descrip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p to 255 characters in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contain these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 \  :  ?  “  &lt;  &gt;  |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7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646D5B7-DF1C-4F47-A176-2449915DE945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 Path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907920" y="1600200"/>
            <a:ext cx="77788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hown in the address bar of your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exact location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folder, subfolders, and file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9"/>
          <p:cNvGrpSpPr/>
          <p:nvPr/>
        </p:nvGrpSpPr>
        <p:grpSpPr>
          <a:xfrm>
            <a:off x="1727280" y="4151160"/>
            <a:ext cx="5821200" cy="1033200"/>
            <a:chOff x="1727280" y="4151160"/>
            <a:chExt cx="5821200" cy="1033200"/>
          </a:xfrm>
        </p:grpSpPr>
        <p:sp>
          <p:nvSpPr>
            <p:cNvPr id="384" name="Text Box 17"/>
            <p:cNvSpPr/>
            <p:nvPr/>
          </p:nvSpPr>
          <p:spPr>
            <a:xfrm>
              <a:off x="1727280" y="4151160"/>
              <a:ext cx="58212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\Computers\Chapter 2\Moon 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1800360" y="4762440"/>
              <a:ext cx="272880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file 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7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E5CDCF4-FF00-4896-97E6-5E0C0928289F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pter 2, Lesson 8: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nd Information &amp; Print Fil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nly work with one active program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window a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window. It will bring it to front for bette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to be darker &amp; brighter. (Inactive windows are fa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7051A9B-D0A0-4ACC-9968-4F92BC1AD1CB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pter 2, Lesson 8: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nd Information &amp; Print Fil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viewing &amp; Printing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 Preview command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,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 Preview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 the Print window. Can see # pages &amp; how it will look when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gnif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se zoom control at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rs. Keehn’s Printe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S218 Lab, HP35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8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8011BCA-22A6-40A5-B663-CB4C929A02EB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6:45Z</dcterms:created>
  <dc:creator>Jean Bissell</dc:creator>
  <dc:description>Copyright 2006 South-Western/Thomson</dc:description>
  <dc:language>en-US</dc:language>
  <cp:lastModifiedBy>Lenessa Keehn</cp:lastModifiedBy>
  <dcterms:modified xsi:type="dcterms:W3CDTF">2011-03-28T15:10:57Z</dcterms:modified>
  <cp:revision>54</cp:revision>
  <dc:subject/>
  <dc:title>Slide 1</dc:title>
</cp:coreProperties>
</file>